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s were first observed in the 17</a:t>
            </a:r>
            <a:r>
              <a:rPr b="0" lang="en-US" sz="2000" spc="-1" strike="noStrike" baseline="30000">
                <a:solidFill>
                  <a:srgbClr val="000000"/>
                </a:solidFill>
                <a:latin typeface="Arial"/>
              </a:rPr>
              <a:t>th</a:t>
            </a:r>
            <a:r>
              <a:rPr b="0" lang="en-US" sz="2000" spc="-1" strike="noStrike">
                <a:solidFill>
                  <a:srgbClr val="000000"/>
                </a:solidFill>
                <a:latin typeface="Arial"/>
              </a:rPr>
              <a:t> century, shortly after the discovery of the microscope. Their significance, however, was not understood until the early 19</a:t>
            </a:r>
            <a:r>
              <a:rPr b="0" lang="en-US" sz="2000" spc="-1" strike="noStrike" baseline="30000">
                <a:solidFill>
                  <a:srgbClr val="000000"/>
                </a:solidFill>
                <a:latin typeface="Arial"/>
              </a:rPr>
              <a:t>th</a:t>
            </a:r>
            <a:r>
              <a:rPr b="0" lang="en-US" sz="2000" spc="-1" strike="noStrike">
                <a:solidFill>
                  <a:srgbClr val="000000"/>
                </a:solidFill>
                <a:latin typeface="Arial"/>
              </a:rPr>
              <a:t> century, when improvements in microscopy permitted closer observa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is the basic unit of which all living things are composed. Cells are the smallest structures capable of basic life processes, such as taking in nutrients, expelling waste, and reproducing. Some microscopic organisms, such as bacteria and protozoa, are unicellular, meaning they consist of a single cell. Plants, animals, and fungi are multicellular; that is, they are composed of a great many cells working in concer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ell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petu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co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perme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icu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io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re cells first observ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cell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human body form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wo distinct types of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ytoplasm of eucaryotic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nucle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mitosis and mei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size of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two main types of cell de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ructed of many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not dependent on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make or force a way into or through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process in which two genetically identical daughter cells are form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 male or female reproductive c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structures specialized to perform particular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ouns from the following verbs and use each of the nouns in a sentence:</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the definition of the following word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co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bos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plasmic reticul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ysos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ptosi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Continuous or The Simple Present Tens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tists (consider) new results of genetic engineering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lasma membrane (enable) a cell to exchange certain materials with its surroun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hey (try) to explain the goal of our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herapy (show) promise in treating some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bservers often (voice) concerns that genetically engineered organisms can harm people or the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hysician always (use) different techniques while working on some assign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moment, the doctor (talk) to his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we stop doing this exercise? I (begin) to feel t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сновна јединица свих живих организама је ћелија. Ћелија се састоји од протоплазме која је сложена, колоидна, делимично провидна супстанца. Протоплазма која се налази између једра и ћелијске мембране се често назива цитоплазма. У цитоплазми се налази фина, мрежаста структура означена као ендоплазматски ретикулум. Сматра се да он потиче од мембране једра. Микрозоми се сматрају деловима ендоплазматског ретикулума и представљају мале грануле које се састоје од протеина, фосфолипида и рибонуклеинске киселине (РНК). Ако би се из цитоплазме одстарниле све структуре процесом центрифугирања, оно што би остало је прозирна течност звана хиалоплазм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7-28T08:53:28Z</dcterms:modified>
  <cp:revision>16</cp:revision>
  <dc:subject/>
  <dc:title>Slide 1</dc:title>
</cp:coreProperties>
</file>